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09240" y="694800"/>
            <a:ext cx="4435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67A92-DCE4-4B56-8B06-D5A370441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C66-E5C7-40D6-A181-802EBD36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DCE-3A94-42D8-B832-E28D9C4E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F752-7A8B-484E-844D-82427882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238-DEB0-4676-AA74-7D546A40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B97-D33A-4A7E-BD79-585C89A3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B31-99AC-4B07-84C2-2E3BE6CD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9B6-2229-47BA-923E-15FAF233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5EC-660E-4ED3-9F67-5B21F6C9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7085-235D-43FB-A2A2-AC078242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778-D7FF-45EE-9B63-1524A595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D3E-2863-4CD4-91E2-E10D2B39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2DC-0A8D-4428-B238-1C9139A4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7F51B-A457-4C00-B232-0B981B673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27800"/>
            <a:ext cx="8086680" cy="414360"/>
          </a:xfrm>
          <a:prstGeom prst="rect">
            <a:avLst/>
          </a:prstGeom>
          <a:gradFill rotWithShape="0">
            <a:gsLst>
              <a:gs pos="0">
                <a:srgbClr val="c96d0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1280" y="6427800"/>
            <a:ext cx="849240" cy="419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57400"/>
            <a:ext cx="8086680" cy="41040"/>
          </a:xfrm>
          <a:prstGeom prst="rect">
            <a:avLst/>
          </a:prstGeom>
          <a:gradFill rotWithShape="0">
            <a:gsLst>
              <a:gs pos="0">
                <a:srgbClr val="c96d0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81160" y="1565280"/>
            <a:ext cx="491796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85800" y="228600"/>
            <a:ext cx="5535720" cy="1177920"/>
          </a:xfrm>
          <a:custGeom>
            <a:avLst/>
            <a:gdLst/>
            <a:ahLst/>
            <a:rect l="l" t="t" r="r" b="b"/>
            <a:pathLst>
              <a:path w="15375" h="3272">
                <a:moveTo>
                  <a:pt x="15374" y="3271"/>
                </a:moveTo>
                <a:lnTo>
                  <a:pt x="15182" y="3079"/>
                </a:lnTo>
                <a:lnTo>
                  <a:pt x="14986" y="2891"/>
                </a:lnTo>
                <a:lnTo>
                  <a:pt x="14784" y="2709"/>
                </a:lnTo>
                <a:lnTo>
                  <a:pt x="14579" y="2532"/>
                </a:lnTo>
                <a:lnTo>
                  <a:pt x="14369" y="2360"/>
                </a:lnTo>
                <a:lnTo>
                  <a:pt x="14154" y="2193"/>
                </a:lnTo>
                <a:lnTo>
                  <a:pt x="13936" y="2031"/>
                </a:lnTo>
                <a:lnTo>
                  <a:pt x="13714" y="1876"/>
                </a:lnTo>
                <a:lnTo>
                  <a:pt x="13487" y="1725"/>
                </a:lnTo>
                <a:lnTo>
                  <a:pt x="13257" y="1581"/>
                </a:lnTo>
                <a:lnTo>
                  <a:pt x="13024" y="1442"/>
                </a:lnTo>
                <a:lnTo>
                  <a:pt x="12787" y="1310"/>
                </a:lnTo>
                <a:lnTo>
                  <a:pt x="12546" y="1183"/>
                </a:lnTo>
                <a:lnTo>
                  <a:pt x="12303" y="1063"/>
                </a:lnTo>
                <a:lnTo>
                  <a:pt x="12057" y="948"/>
                </a:lnTo>
                <a:lnTo>
                  <a:pt x="11808" y="840"/>
                </a:lnTo>
                <a:lnTo>
                  <a:pt x="11556" y="738"/>
                </a:lnTo>
                <a:lnTo>
                  <a:pt x="11302" y="643"/>
                </a:lnTo>
                <a:lnTo>
                  <a:pt x="11045" y="554"/>
                </a:lnTo>
                <a:lnTo>
                  <a:pt x="10787" y="471"/>
                </a:lnTo>
                <a:lnTo>
                  <a:pt x="10526" y="395"/>
                </a:lnTo>
                <a:lnTo>
                  <a:pt x="10263" y="325"/>
                </a:lnTo>
                <a:lnTo>
                  <a:pt x="9999" y="263"/>
                </a:lnTo>
                <a:lnTo>
                  <a:pt x="9733" y="206"/>
                </a:lnTo>
                <a:lnTo>
                  <a:pt x="9466" y="157"/>
                </a:lnTo>
                <a:lnTo>
                  <a:pt x="9198" y="114"/>
                </a:lnTo>
                <a:lnTo>
                  <a:pt x="8929" y="78"/>
                </a:lnTo>
                <a:lnTo>
                  <a:pt x="8659" y="49"/>
                </a:lnTo>
                <a:lnTo>
                  <a:pt x="8388" y="26"/>
                </a:lnTo>
                <a:lnTo>
                  <a:pt x="8117" y="11"/>
                </a:lnTo>
                <a:lnTo>
                  <a:pt x="7846" y="2"/>
                </a:lnTo>
                <a:lnTo>
                  <a:pt x="7574" y="0"/>
                </a:lnTo>
                <a:lnTo>
                  <a:pt x="7303" y="5"/>
                </a:lnTo>
                <a:lnTo>
                  <a:pt x="7031" y="17"/>
                </a:lnTo>
                <a:lnTo>
                  <a:pt x="6761" y="35"/>
                </a:lnTo>
                <a:lnTo>
                  <a:pt x="6490" y="61"/>
                </a:lnTo>
                <a:lnTo>
                  <a:pt x="6220" y="93"/>
                </a:lnTo>
                <a:lnTo>
                  <a:pt x="5952" y="132"/>
                </a:lnTo>
                <a:lnTo>
                  <a:pt x="5684" y="177"/>
                </a:lnTo>
                <a:lnTo>
                  <a:pt x="5418" y="230"/>
                </a:lnTo>
                <a:lnTo>
                  <a:pt x="5152" y="289"/>
                </a:lnTo>
                <a:lnTo>
                  <a:pt x="4889" y="355"/>
                </a:lnTo>
                <a:lnTo>
                  <a:pt x="4627" y="427"/>
                </a:lnTo>
                <a:lnTo>
                  <a:pt x="4367" y="506"/>
                </a:lnTo>
                <a:lnTo>
                  <a:pt x="4110" y="591"/>
                </a:lnTo>
                <a:lnTo>
                  <a:pt x="3854" y="683"/>
                </a:lnTo>
                <a:lnTo>
                  <a:pt x="3601" y="781"/>
                </a:lnTo>
                <a:lnTo>
                  <a:pt x="3350" y="886"/>
                </a:lnTo>
                <a:lnTo>
                  <a:pt x="3102" y="997"/>
                </a:lnTo>
                <a:lnTo>
                  <a:pt x="2857" y="1114"/>
                </a:lnTo>
                <a:lnTo>
                  <a:pt x="2615" y="1237"/>
                </a:lnTo>
                <a:lnTo>
                  <a:pt x="2376" y="1366"/>
                </a:lnTo>
                <a:lnTo>
                  <a:pt x="2141" y="1502"/>
                </a:lnTo>
                <a:lnTo>
                  <a:pt x="1909" y="1643"/>
                </a:lnTo>
                <a:lnTo>
                  <a:pt x="1680" y="1790"/>
                </a:lnTo>
                <a:lnTo>
                  <a:pt x="1456" y="1942"/>
                </a:lnTo>
                <a:lnTo>
                  <a:pt x="1235" y="2100"/>
                </a:lnTo>
                <a:lnTo>
                  <a:pt x="1018" y="2264"/>
                </a:lnTo>
                <a:lnTo>
                  <a:pt x="806" y="2433"/>
                </a:lnTo>
                <a:lnTo>
                  <a:pt x="598" y="2608"/>
                </a:lnTo>
                <a:lnTo>
                  <a:pt x="394" y="2787"/>
                </a:lnTo>
                <a:lnTo>
                  <a:pt x="195" y="2972"/>
                </a:lnTo>
                <a:lnTo>
                  <a:pt x="0" y="316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c96d0e"/>
                </a:solidFill>
                <a:latin typeface="Arial"/>
              </a:rPr>
              <a:t>D-RA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Smith - KK7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522756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ommunications Academy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681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4840" y="0"/>
            <a:ext cx="668664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utur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o more BBS-centric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-client-like messaging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TP-client-like file transfer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event capture and log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 transport of forms (interface with WinLink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ules for display of various PO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Python/G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Linux, Mac,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session stack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treetMap.org for free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03240" y="45720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82600" y="4603680"/>
            <a:ext cx="1317600" cy="1568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600360" y="474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58000" y="1609560"/>
            <a:ext cx="2009880" cy="676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7315200" y="27432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6400800" y="4800600"/>
            <a:ext cx="134136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-RAT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6600ff"/>
                </a:solidFill>
                <a:latin typeface="Arial"/>
              </a:rPr>
              <a:t>http://www.d-rats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-RATS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http://lists.danplanet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263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-ST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-RA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es and I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al Awar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ST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ly digita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voice an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speed (DD) and Low-speed (D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er and gatewa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V radios can do ~950bp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modem requ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st a serial port (no framing, ECC, etc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8-bit sa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0120" y="685800"/>
            <a:ext cx="12952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o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in-one tool for D-STAR data 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real uses for data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ed at EmCo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ependence on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ginally targeted for simpl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network interaction at end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essagin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-form multicast chat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-prot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ACK/NAK from remote stations (yet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XML to convey structure and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SL at the endpoints for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afted headers for reply and for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629400" y="4192560"/>
            <a:ext cx="228600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les and Imag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itrary file transfers with sliding window, compression, and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server” for remote 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resize/resamp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imag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72200" y="2982960"/>
            <a:ext cx="2743200" cy="31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sitional Awarenes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s and sends ICOM GPS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and direction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map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GPS to multiplex the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stations updated in re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80324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55760" y="0"/>
            <a:ext cx="6681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686640" cy="686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nny Richards</dc:creator>
  <dc:description/>
  <dc:language>en-US</dc:language>
  <cp:lastModifiedBy>Kenny Richards</cp:lastModifiedBy>
  <cp:revision>0</cp:revision>
  <dc:subject/>
  <dc:title>Talk Title</dc:title>
</cp:coreProperties>
</file>