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9240" y="694800"/>
            <a:ext cx="4435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01FCE-EE91-4408-A024-71A835E0E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D86-F52D-4C9E-B4C3-614EB33E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679-B6AA-44BC-98E3-3F6558CB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93B-F3B3-49A0-84F6-F87159AF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58E-F881-4262-9450-AE7A2502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3A4-2119-4A12-A609-11826B70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4F2-FE81-49CA-96A4-7545D382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7EB-DDB4-4321-8FEA-E550B944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7DE-326D-45F1-A757-060ED4E7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290-D6CF-4C81-8612-874E90EB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5CE-54D3-4EC9-BFF0-1D33D09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196-16F7-44A7-AC5F-AC244C3E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C25-B8EF-4288-9E1C-826D58AF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339AE-57BC-4DA8-BAB3-DC1346247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27800"/>
            <a:ext cx="8086680" cy="41436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1280" y="6427800"/>
            <a:ext cx="849240" cy="41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57400"/>
            <a:ext cx="8086680" cy="4104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81160" y="1565280"/>
            <a:ext cx="491796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85800" y="228600"/>
            <a:ext cx="5535720" cy="1177920"/>
          </a:xfrm>
          <a:custGeom>
            <a:avLst/>
            <a:gdLst/>
            <a:ahLst/>
            <a:rect l="l" t="t" r="r" b="b"/>
            <a:pathLst>
              <a:path w="15375" h="3272">
                <a:moveTo>
                  <a:pt x="15374" y="3271"/>
                </a:moveTo>
                <a:lnTo>
                  <a:pt x="15182" y="3079"/>
                </a:lnTo>
                <a:lnTo>
                  <a:pt x="14986" y="2891"/>
                </a:lnTo>
                <a:lnTo>
                  <a:pt x="14784" y="2709"/>
                </a:lnTo>
                <a:lnTo>
                  <a:pt x="14579" y="2532"/>
                </a:lnTo>
                <a:lnTo>
                  <a:pt x="14369" y="2360"/>
                </a:lnTo>
                <a:lnTo>
                  <a:pt x="14154" y="2193"/>
                </a:lnTo>
                <a:lnTo>
                  <a:pt x="13936" y="2031"/>
                </a:lnTo>
                <a:lnTo>
                  <a:pt x="13714" y="1876"/>
                </a:lnTo>
                <a:lnTo>
                  <a:pt x="13487" y="1725"/>
                </a:lnTo>
                <a:lnTo>
                  <a:pt x="13257" y="1581"/>
                </a:lnTo>
                <a:lnTo>
                  <a:pt x="13024" y="1442"/>
                </a:lnTo>
                <a:lnTo>
                  <a:pt x="12787" y="1310"/>
                </a:lnTo>
                <a:lnTo>
                  <a:pt x="12546" y="1183"/>
                </a:lnTo>
                <a:lnTo>
                  <a:pt x="12303" y="1063"/>
                </a:lnTo>
                <a:lnTo>
                  <a:pt x="12057" y="948"/>
                </a:lnTo>
                <a:lnTo>
                  <a:pt x="11808" y="840"/>
                </a:lnTo>
                <a:lnTo>
                  <a:pt x="11556" y="738"/>
                </a:lnTo>
                <a:lnTo>
                  <a:pt x="11302" y="643"/>
                </a:lnTo>
                <a:lnTo>
                  <a:pt x="11045" y="554"/>
                </a:lnTo>
                <a:lnTo>
                  <a:pt x="10787" y="471"/>
                </a:lnTo>
                <a:lnTo>
                  <a:pt x="10526" y="395"/>
                </a:lnTo>
                <a:lnTo>
                  <a:pt x="10263" y="325"/>
                </a:lnTo>
                <a:lnTo>
                  <a:pt x="9999" y="263"/>
                </a:lnTo>
                <a:lnTo>
                  <a:pt x="9733" y="206"/>
                </a:lnTo>
                <a:lnTo>
                  <a:pt x="9466" y="157"/>
                </a:lnTo>
                <a:lnTo>
                  <a:pt x="9198" y="114"/>
                </a:lnTo>
                <a:lnTo>
                  <a:pt x="8929" y="78"/>
                </a:lnTo>
                <a:lnTo>
                  <a:pt x="8659" y="49"/>
                </a:lnTo>
                <a:lnTo>
                  <a:pt x="8388" y="26"/>
                </a:lnTo>
                <a:lnTo>
                  <a:pt x="8117" y="11"/>
                </a:lnTo>
                <a:lnTo>
                  <a:pt x="7846" y="2"/>
                </a:lnTo>
                <a:lnTo>
                  <a:pt x="7574" y="0"/>
                </a:lnTo>
                <a:lnTo>
                  <a:pt x="7303" y="5"/>
                </a:lnTo>
                <a:lnTo>
                  <a:pt x="7031" y="17"/>
                </a:lnTo>
                <a:lnTo>
                  <a:pt x="6761" y="35"/>
                </a:lnTo>
                <a:lnTo>
                  <a:pt x="6490" y="61"/>
                </a:lnTo>
                <a:lnTo>
                  <a:pt x="6220" y="93"/>
                </a:lnTo>
                <a:lnTo>
                  <a:pt x="5952" y="132"/>
                </a:lnTo>
                <a:lnTo>
                  <a:pt x="5684" y="177"/>
                </a:lnTo>
                <a:lnTo>
                  <a:pt x="5418" y="230"/>
                </a:lnTo>
                <a:lnTo>
                  <a:pt x="5152" y="289"/>
                </a:lnTo>
                <a:lnTo>
                  <a:pt x="4889" y="355"/>
                </a:lnTo>
                <a:lnTo>
                  <a:pt x="4627" y="427"/>
                </a:lnTo>
                <a:lnTo>
                  <a:pt x="4367" y="506"/>
                </a:lnTo>
                <a:lnTo>
                  <a:pt x="4110" y="591"/>
                </a:lnTo>
                <a:lnTo>
                  <a:pt x="3854" y="683"/>
                </a:lnTo>
                <a:lnTo>
                  <a:pt x="3601" y="781"/>
                </a:lnTo>
                <a:lnTo>
                  <a:pt x="3350" y="886"/>
                </a:lnTo>
                <a:lnTo>
                  <a:pt x="3102" y="997"/>
                </a:lnTo>
                <a:lnTo>
                  <a:pt x="2857" y="1114"/>
                </a:lnTo>
                <a:lnTo>
                  <a:pt x="2615" y="1237"/>
                </a:lnTo>
                <a:lnTo>
                  <a:pt x="2376" y="1366"/>
                </a:lnTo>
                <a:lnTo>
                  <a:pt x="2141" y="1502"/>
                </a:lnTo>
                <a:lnTo>
                  <a:pt x="1909" y="1643"/>
                </a:lnTo>
                <a:lnTo>
                  <a:pt x="1680" y="1790"/>
                </a:lnTo>
                <a:lnTo>
                  <a:pt x="1456" y="1942"/>
                </a:lnTo>
                <a:lnTo>
                  <a:pt x="1235" y="2100"/>
                </a:lnTo>
                <a:lnTo>
                  <a:pt x="1018" y="2264"/>
                </a:lnTo>
                <a:lnTo>
                  <a:pt x="806" y="2433"/>
                </a:lnTo>
                <a:lnTo>
                  <a:pt x="598" y="2608"/>
                </a:lnTo>
                <a:lnTo>
                  <a:pt x="394" y="2787"/>
                </a:lnTo>
                <a:lnTo>
                  <a:pt x="195" y="2972"/>
                </a:lnTo>
                <a:lnTo>
                  <a:pt x="0" y="31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c96d0e"/>
                </a:solidFill>
                <a:latin typeface="Arial"/>
              </a:rPr>
              <a:t>D-RA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Smith - KK7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522756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ommunications Academy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81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4840" y="0"/>
            <a:ext cx="6686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utur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more BBS-centric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-client-like messaging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-client-like file transf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event capture and log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 transport of forms (interface with WinLink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ules for display of various PO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Python/G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Linux, Mac,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session stack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treetMap.org for fre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03240" y="4572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82600" y="4603680"/>
            <a:ext cx="1317600" cy="1568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600360" y="474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58000" y="1609560"/>
            <a:ext cx="2009880" cy="67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315200" y="27432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400800" y="4800600"/>
            <a:ext cx="134136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6600ff"/>
                </a:solidFill>
                <a:latin typeface="Arial"/>
              </a:rPr>
              <a:t>http://www.d-rat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http://lists.danplanet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82263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-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-R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s and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al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S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ly digita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voice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speed (DD) and Low-speed (D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r and gatewa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V radios can do ~950bp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modem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 serial port (no framing, ECC, et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8-bit sa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2952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in-one tool for D-STAR data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al uses for data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ed at EmCo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pendence on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ly targeted for si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etwork interaction at end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ssagin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form multicast cha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-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ACK/NAK from remote stations (ye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XML to convey structure an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SL at the endpoints for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afted headers for reply and for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629400" y="4192560"/>
            <a:ext cx="228600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les and Imag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file transfers with sliding window, compression, and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server” for remote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resize/resa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mag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72200" y="2982960"/>
            <a:ext cx="2743200" cy="31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sitional Awarene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s and sends ICOM GPS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and direc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p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GPS to multiplex th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stations updated in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8032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55760" y="0"/>
            <a:ext cx="668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86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ny Richards</dc:creator>
  <dc:description/>
  <dc:language>en-US</dc:language>
  <cp:lastModifiedBy>Kenny Richards</cp:lastModifiedBy>
  <cp:revision>0</cp:revision>
  <dc:subject/>
  <dc:title>Talk Title</dc:title>
</cp:coreProperties>
</file>