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EFD-1147-4192-A1B1-37A7F67C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911-3664-4DA9-95E1-AF84C6F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1CC-5741-401B-80AD-AB6ECEDD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11E6-B782-4512-B52B-A68FF0E7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2AB-EE86-486A-ADAE-85EA5D01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5A4-EC65-45D8-ABFE-046E3DE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260-96D5-496C-8A2D-FBADAE91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496-3C99-476B-9745-2EC9449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755-A518-4574-8F0F-9051808C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2F7-A16D-4075-940F-DE3875A7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930-D2FA-43FF-AA60-E8F37CE8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451-AC09-4B35-90DA-9F63D143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463CB-8109-4CED-9665-ABE9DC92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BC227-D94F-42B9-BC76-49CF34A0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1B159-288B-4768-AAF9-52B2B9E7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3322B-4D82-4A1C-A981-FD321653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7854D-A10D-4EB8-83A4-6EE7EEDE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E6F44-5F64-4592-96FC-4A0C6AB1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51E62-A3ED-4B33-9779-313422E6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34CF6-48BA-4A24-94A0-B60ADFE4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293E2-C6CE-463E-86C3-6A01892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B72D5-E0B9-4AAB-A751-BCAF8AF1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C43B4-75FE-44C5-ADF5-F6F436A8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F19C9-10E0-4380-B8E4-86E85D97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086600"/>
            <a:ext cx="8915400" cy="45720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107640" y="7086600"/>
            <a:ext cx="936360" cy="461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1276200"/>
            <a:ext cx="8915400" cy="4608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EDD08-4FB2-4B96-AC8F-0FB734D2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85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B7A54-1814-4D23-B160-F88B66DA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7086600"/>
            <a:ext cx="8915400" cy="45720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07640" y="7086600"/>
            <a:ext cx="936360" cy="461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276200"/>
            <a:ext cx="8915400" cy="4608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7432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c96d0e"/>
                </a:solidFill>
                <a:latin typeface="Arial"/>
              </a:rPr>
              <a:t>D-RATS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457200" y="68580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smith@danplanet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100584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96d0e"/>
                </a:solidFill>
                <a:latin typeface="Arial"/>
              </a:rPr>
              <a:t>Emergency Communications with D-R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040" y="5825880"/>
            <a:ext cx="8156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an Smith, KK7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1"/>
              </a:rPr>
              <a:t>dsmith@danplane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673416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57600" y="2971800"/>
            <a:ext cx="228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8560" y="0"/>
            <a:ext cx="8744040" cy="74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d receive email from D-RATS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ation with internet access can be a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ateway access to RF stations with no other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etup in an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only an internet connection and email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served agencies or out-of-area stations through the nearest internet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629400" cy="735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osition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/bearing calculation to any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GPS support for moving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-STAR radio with an integrated or external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-2820H, IC-92AD have integrated GPS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COM radios can use any serial NMEA 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515600" y="160020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5640" y="0"/>
            <a:ext cx="9115560" cy="75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6520" y="0"/>
            <a:ext cx="9144000" cy="75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an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-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 transf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in an Emerg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, error-free transfer of electron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tuation status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manif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ctures of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et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 radio operators directly in an E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stations in noisy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logging of messages with times and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ata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wires, devices, less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er stations – No TNC/Modem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voice and data on the sam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need for separate rad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r frequency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reports in realtime while operator is spe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way operation for wide-area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orks through the gateway to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instant-message operation among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o everyone sees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 broadcasting updates and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et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perate in a very nois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't contribute to noise in an operations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convey messages and ensure 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s, Nam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64840" y="1828800"/>
            <a:ext cx="181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87948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the integrated data sub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y arbitrar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reading a document over voice, send it exactly in its natura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image resize and re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es files where possible for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 interrupted 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fillable forms that can be sent to other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able for quick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than an equivalent office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able view that mimics paper form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eate any agency form with integrated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form that the served agency is us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vent-specific forms for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forms easily from station to station tracked with a transfer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76320"/>
            <a:ext cx="6524640" cy="723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Smith</dc:creator>
  <dc:description/>
  <dc:language>en-US</dc:language>
  <cp:lastModifiedBy>Dan Smith</cp:lastModifiedBy>
  <cp:revision>0</cp:revision>
  <dc:subject/>
  <dc:title/>
</cp:coreProperties>
</file>