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A8B-07C7-4431-A255-38042888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D84-BEB8-41EB-BF9B-29587A0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6E1-71AD-4AF7-A56E-31322C7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CF7-4EE3-4B5E-B2A9-2E299CCF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A19-46E6-47F1-92E5-465A5F8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0B3-0042-44F8-9075-E127AD9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D8D-2CC3-459B-A440-5FB4109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B1-4A1C-4C7B-97E3-DCA4900E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22F-D5F6-4570-9DDE-5A4BFD2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CAD-C900-4B2A-AF9F-6AEA1CA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3BA-A675-46C0-B868-B09F4CF0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323-2029-486F-B6FB-0AA8C1DE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80F0E-6889-45AF-ACCB-22D91A8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B328B-CC2B-4F11-9672-4A03590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0BA2-06ED-4732-ADCF-4A33B222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8A847-065A-4615-AA0E-0173234F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C8A4-FF16-46C3-86AF-EB44B77A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F82E5-6E16-4285-9327-0FCE8EB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8D17-6375-41E7-B5F3-4A7E6B5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71718-C115-42BA-8DD4-D877996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99A7D-49D5-4E45-9529-782E2D0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28D22-A44F-4FA1-8832-82E1D72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40FAC-3AFF-4593-8F0D-F6C315C5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EBEFB-C2F8-4F58-983C-E8FC4FEA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086600"/>
            <a:ext cx="8915400" cy="45720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07640" y="7086600"/>
            <a:ext cx="936360" cy="461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1276200"/>
            <a:ext cx="8915400" cy="4608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D71A7-5591-4300-9D01-1000F0E32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85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B1B19-A361-4E3B-B92B-32C6174A9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086600"/>
            <a:ext cx="8915400" cy="45720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07640" y="7086600"/>
            <a:ext cx="936360" cy="461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6200"/>
            <a:ext cx="8915400" cy="4608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743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c96d0e"/>
                </a:solidFill>
                <a:latin typeface="Arial"/>
              </a:rPr>
              <a:t>D-RATS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6858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smith@danplanet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100584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96d0e"/>
                </a:solidFill>
                <a:latin typeface="Arial"/>
              </a:rPr>
              <a:t>Emergency Communications with D-R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040" y="5825880"/>
            <a:ext cx="8156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an Smith,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1"/>
              </a:rPr>
              <a:t>dsmith@danpla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673416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57600" y="29718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8560" y="0"/>
            <a:ext cx="8744040" cy="74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email from D-RATS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ation with internet access can be a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 access to RF stations with no other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up in a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nly an internet connection and emai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served agencies or out-of-area stations through the nearest internet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629400" cy="735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osition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/bearing calculation to any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support for moving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-STAR radio with an integrated or external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-2820H, IC-92AD have integrated GP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COM radios can use any serial NMEA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15600" y="16002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640" y="0"/>
            <a:ext cx="9115560" cy="75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6520" y="0"/>
            <a:ext cx="9144000" cy="75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an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trans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n an Emer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, error-free transfer of electron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status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manif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tures of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radio operators directly in an E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stations in noisy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logging of messages with times and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ata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wires, devices, less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r stations – No TNC/Modem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 on the sam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need for separate rad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r frequency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reports in realtime while operator is spe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operation for wide-area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orks through the gateway 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instant-message operation among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o everyone sees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broadcasting updates and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perate in a very nois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't contribute to noise in an operation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convey messages and ensure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, Nam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64840" y="18288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7948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integrated data sub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y arbitr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reading a document over voice, send it exactly in its natur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mage resize and re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s files where possible fo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interrupted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fillable forms that can be sent to other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able for quick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than an equivalent offic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able view that mimics paper form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eate any agency form with integrated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rm that the served agency is u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vent-specific forms fo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forms easily from station to station tracked with a transfer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76320"/>
            <a:ext cx="6524640" cy="723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mith</dc:creator>
  <dc:description/>
  <dc:language>en-US</dc:language>
  <cp:lastModifiedBy>Dan Smith</cp:lastModifiedBy>
  <cp:revision>0</cp:revision>
  <dc:subject/>
  <dc:title/>
</cp:coreProperties>
</file>