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712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667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8"/>
          </p:nvPr>
        </p:nvSpPr>
        <p:spPr>
          <a:xfrm>
            <a:off x="0" y="8685360"/>
            <a:ext cx="296712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2B96A5-7B22-4445-8C8C-C5BA2EE1E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http://www.microham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Created by Scott N7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EDF3B-4F13-4360-9FAC-7BB829276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2884A-CB2C-48F3-B29F-A30173CFA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652A7-DD09-4CDA-9BBB-9A8BD3C4A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146F6-91AD-4F58-9C9D-118E9FE16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A689A-D6F5-492D-AAF7-B2D57584B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8D90C-DCCF-4811-87CC-91727F513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6DEF7-D910-4010-ADD6-EFE53C1DD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82EDF-32D1-47F8-97A3-889B12371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0C6C1-8B78-4972-A8DF-12DECE382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FF727-E396-4EFB-877A-D28AC26B2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48C09-71A4-4CE0-B92A-3470D123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BAA1E-7476-44FC-B87F-AC7C663E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038A5-9704-4789-A044-E736A617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4E904-ED94-420E-B14E-82BFAD72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27806-83A4-444D-9203-9E681F598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4912D-0E50-416B-87C1-BD984E303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83EDD-4419-4E44-BDC6-C4999E751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75497-2921-4B5A-B208-A4DDD4577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83EA1-ECDA-43DF-ACD7-0D1A8129E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46552-9735-4EF6-8032-E55D9DD50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10A4E-E777-4173-A777-D647269B2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9714B-3D7E-4C09-8F9F-7EA87F54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5FABF-B5B3-4EB7-9C13-D96CCC86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31824-C3D3-42BD-831C-D036A3F7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996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3080" y="6248160"/>
            <a:ext cx="21290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8B46A7-F2F6-4EA9-BF6B-118CA0AA4A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d0d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080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38360" indent="-28116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d0d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1736280"/>
            <a:ext cx="7767720" cy="19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2868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996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5320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2886BB-195B-4D0B-9C50-EEE485F0FA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38360" indent="-28116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Garamond"/>
              </a:rPr>
              <a:t>D-RATS</a:t>
            </a:r>
            <a:endParaRPr b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Dan Smith - KK7D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"/>
          <p:cNvSpPr/>
          <p:nvPr/>
        </p:nvSpPr>
        <p:spPr>
          <a:xfrm>
            <a:off x="152280" y="152280"/>
            <a:ext cx="8915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MicroHAMS Digital Conference 200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References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D-RATS Website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38360" indent="-28116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Garamond"/>
              </a:rPr>
              <a:t>http://www.d-rats.com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8040" indent="-33804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D-RATS Mailing Lis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38360" indent="-28116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Garamond"/>
              </a:rPr>
              <a:t>http://lists.danplanet.com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icroHAMS Digital Conference 2009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5532480" cy="985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icroHAMS Digital Conference 2009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172800"/>
            <a:ext cx="82263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Backup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icroHAMS Digital Conference 2009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527120" y="0"/>
            <a:ext cx="67024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icroHAMS Digital Conference 2009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utline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hat is D-STAR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8040" indent="-33804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hat is D-RATS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Goa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Messaging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iles and Image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ositional Awarenes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utur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8040" indent="-33804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mplementation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icroHAMS Digital Conference 2009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What is D-STAR?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urely digital mode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8040" indent="-33804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multaneous voice and data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8040" indent="-33804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High-speed (DD) and Low-speed (DV)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8040" indent="-33804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Repeater and gateway infrastructure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8040" indent="-33804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ll DV radios can do ~950bps data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38360" indent="-28116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No modem required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38360" indent="-28116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Just a serial port (no framing, ECC, etc)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38360" indent="-28116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Not 8-bit saf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icroHAMS Digital Conference 2009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What is D-RATS</a:t>
            </a:r>
            <a:br>
              <a:rPr sz="4400"/>
            </a:b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(Goal)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‏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ll-in-one tool for D-STAR data op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8040" indent="-33804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rovide real uses for data chann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8040" indent="-33804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Oriented at EmComm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8040" indent="-33804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No dependence on infrastructure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38360" indent="-28116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Originally targeted for simplex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38360" indent="-28116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ll network interaction at endpoint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icroHAMS Digital Conference 2009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What is D-RATS?</a:t>
            </a:r>
            <a:br>
              <a:rPr sz="4400"/>
            </a:b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(Messaging)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‏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ree-form multicast chat message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38360" indent="-28116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hecksum-protected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38360" indent="-28116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No ACK/NAK from remote stations (yet)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8040" indent="-33804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tructured message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38360" indent="-28116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Use XML to convey structure and conten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38360" indent="-28116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XSL at the endpoints for presentation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8040" indent="-33804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Email gateway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38360" indent="-28116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rafted headers for reply and forward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icroHAMS Digital Conference 2009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What is D-RATS?</a:t>
            </a:r>
            <a:br>
              <a:rPr sz="4400"/>
            </a:b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(Files and Images)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‏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rbitrary file transfers with sliding window, compression, and resume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8040" indent="-33804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le server” for remote retrieva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8040" indent="-33804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ntegrated image resize/resample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icroHAMS Digital Conference 2009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What is D-RATS?</a:t>
            </a:r>
            <a:br>
              <a:rPr sz="4400"/>
            </a:b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(Positional Awareness)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‏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aptures and sends ICOM GPS string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8040" indent="-33804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Distance and direction calculation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8040" indent="-33804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ntegrated map display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8040" indent="-33804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External GPS to multiplex the por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8040" indent="-33804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Moving stations updated in real-time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icroHAMS Digital Conference 2009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What is D-RATS?</a:t>
            </a:r>
            <a:br>
              <a:rPr sz="4400"/>
            </a:b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(Future)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‏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Move to more BBS-centric behavior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38360" indent="-28116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Email-client-like messaging interfac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38360" indent="-28116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TP-client-like file transfer interfac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38360" indent="-28116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Better event capture and logging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8040" indent="-33804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Mapping improvement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38360" indent="-28116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Modules for display of various POI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38360" indent="-28116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38360" indent="-281160"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Usability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icroHAMS Digital Conference 2009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Implementation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ritten in Python/GTK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8040" indent="-33804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Runs on Linux, Mac, and others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8040" indent="-33804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ull session stack protoco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8040" indent="-33804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OpenStreetMap.org for free map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icroHAMS Digital Conference 2009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enny Richards</dc:creator>
  <dc:description/>
  <dc:language>en-US</dc:language>
  <cp:lastModifiedBy>Kenny Richards</cp:lastModifiedBy>
  <cp:revision>0</cp:revision>
  <dc:subject/>
  <dc:title>Talk Title</dc:title>
</cp:coreProperties>
</file>