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9B55-C4E4-4858-BD08-8E8FF86B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62BE-680D-4C98-BC99-BD86A584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DEED-D0A8-405E-B187-A2F0B499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69F6-07A8-4EFB-AA91-FD4286AF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90B8-44C4-422E-9F82-221BD0E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7B9F-BB23-41DB-8C9F-6B052F4A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E157-9B9D-4952-8CB2-43C4B1AF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CE96-2E48-4570-9CDE-AA541F0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31F1-19F0-4F8D-BA58-48CE0507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ED90-E6B6-4AF4-AD70-98151533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2A81-2068-4A2E-AD28-6DAB20D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9449-E447-4F5C-ACD1-697CE18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DD86-8A29-4764-A69C-CF4BFE4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0957-DAD8-4E18-B992-25B3A7F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2AF-72CF-4CA2-B0DD-A1EDB4F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2BC-3557-44B3-9D19-8F59E727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07B3-CE3D-442A-912D-249BA12B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C5D6-496F-450A-ADF4-849D03D5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FD8F-D8F3-4E37-BF86-89DF6CA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9CDB-1829-4778-AB1B-C524107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025C-0283-451C-9DEE-147729C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4BC5-8DE7-4DD2-9A19-3EF9C73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2B42-B1EB-455E-A237-907AB01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886E-A72D-4E4E-93CD-248BBD6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4986-3CEE-40E6-8779-1ED7C5F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996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916B6-27E5-423D-B05B-928F1B50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08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7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996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D475-9A30-4777-8884-E5D9DD3C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D-RATS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icroHAMS Digital Conference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-RATS Websit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Garamond"/>
              </a:rPr>
              <a:t>http://www.d-rats.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-RATS Mailing Li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http://lists.danplanet.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32480" cy="98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263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7120" y="0"/>
            <a:ext cx="6702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D-STA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ssag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les and Im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onal Awar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STAR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urely digital mod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multaneous voice and dat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-speed (DD) and Low-speed (DV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peater and gateway infrastructu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 DV radios can do ~950bps dat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modem requir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Just a serial port (no framing, ECC, etc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t 8-bit saf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Goal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-in-one tool for D-STAR data op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vide real uses for data chann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iented at EmCom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dependence on infrastructu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riginally targeted for simple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l network interaction at endpoi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Messaging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ee-form multicast chat messa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ecksum-protec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ACK/NAK from remote stations (yet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uctured messa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 XML to convey structure and cont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SL at the endpoints for present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mail gatew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rafted headers for reply and forwar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Files and Images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bitrary file transfers with sliding window, compression, and resu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e server” for remote retrieva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grated image resize/resampl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ositional Awareness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ptures and sends ICOM GPS string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stance and direction calcul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grated map displ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ternal GPS to multiplex the 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ing stations updated in real-ti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Future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e to more BBS-centric behavio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mail-client-like messaging interf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TP-client-like file transfer interf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ter event capture and logg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pping improveme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ules for display of various PO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ten in Python/GT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ns on Linux, Mac, and othe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session stack protoc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penStreetMap.org for free map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