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9600" y="695160"/>
            <a:ext cx="4432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4"/>
          </p:nvPr>
        </p:nvSpPr>
        <p:spPr>
          <a:xfrm>
            <a:off x="38811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84D2B-5AC3-49A6-9123-2B227CC33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460-F5FF-4FF8-B153-38C6C1F2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51F-C8D8-47A7-A22B-1AC2EB46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F95-74A5-4639-ADF5-FE8F6A65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684-6E92-4F11-8B4E-91E39C4A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82249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F02-C40A-444B-AE8F-9F2EAEB9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77B-1181-4E78-ABBE-6623A97C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83A-2793-4093-9179-0DA1F59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8F5-E839-4C64-B170-558E25E2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82249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BA9-98FB-442A-BCCF-267BEAB0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E95-4F59-4F57-8C87-472ABB1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81C-0E7C-421D-9795-C7682E15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C18-D661-4D18-8D67-700EA24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A9BA1-FB7A-4459-B27D-C3734D700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27800"/>
            <a:ext cx="8086680" cy="41436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1280" y="6427800"/>
            <a:ext cx="849240" cy="41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57400"/>
            <a:ext cx="8086680" cy="4104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1160" y="1565280"/>
            <a:ext cx="491796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85800" y="228600"/>
            <a:ext cx="5535720" cy="1177920"/>
          </a:xfrm>
          <a:custGeom>
            <a:avLst/>
            <a:gdLst/>
            <a:ahLst/>
            <a:rect l="l" t="t" r="r" b="b"/>
            <a:pathLst>
              <a:path w="15375" h="3272">
                <a:moveTo>
                  <a:pt x="15374" y="3271"/>
                </a:moveTo>
                <a:lnTo>
                  <a:pt x="15182" y="3079"/>
                </a:lnTo>
                <a:lnTo>
                  <a:pt x="14986" y="2891"/>
                </a:lnTo>
                <a:lnTo>
                  <a:pt x="14784" y="2709"/>
                </a:lnTo>
                <a:lnTo>
                  <a:pt x="14579" y="2532"/>
                </a:lnTo>
                <a:lnTo>
                  <a:pt x="14369" y="2360"/>
                </a:lnTo>
                <a:lnTo>
                  <a:pt x="14154" y="2193"/>
                </a:lnTo>
                <a:lnTo>
                  <a:pt x="13936" y="2031"/>
                </a:lnTo>
                <a:lnTo>
                  <a:pt x="13714" y="1876"/>
                </a:lnTo>
                <a:lnTo>
                  <a:pt x="13487" y="1725"/>
                </a:lnTo>
                <a:lnTo>
                  <a:pt x="13257" y="1581"/>
                </a:lnTo>
                <a:lnTo>
                  <a:pt x="13024" y="1442"/>
                </a:lnTo>
                <a:lnTo>
                  <a:pt x="12787" y="1310"/>
                </a:lnTo>
                <a:lnTo>
                  <a:pt x="12546" y="1183"/>
                </a:lnTo>
                <a:lnTo>
                  <a:pt x="12303" y="1063"/>
                </a:lnTo>
                <a:lnTo>
                  <a:pt x="12057" y="948"/>
                </a:lnTo>
                <a:lnTo>
                  <a:pt x="11808" y="840"/>
                </a:lnTo>
                <a:lnTo>
                  <a:pt x="11556" y="738"/>
                </a:lnTo>
                <a:lnTo>
                  <a:pt x="11302" y="643"/>
                </a:lnTo>
                <a:lnTo>
                  <a:pt x="11045" y="554"/>
                </a:lnTo>
                <a:lnTo>
                  <a:pt x="10787" y="471"/>
                </a:lnTo>
                <a:lnTo>
                  <a:pt x="10526" y="395"/>
                </a:lnTo>
                <a:lnTo>
                  <a:pt x="10263" y="325"/>
                </a:lnTo>
                <a:lnTo>
                  <a:pt x="9999" y="263"/>
                </a:lnTo>
                <a:lnTo>
                  <a:pt x="9733" y="206"/>
                </a:lnTo>
                <a:lnTo>
                  <a:pt x="9466" y="157"/>
                </a:lnTo>
                <a:lnTo>
                  <a:pt x="9198" y="114"/>
                </a:lnTo>
                <a:lnTo>
                  <a:pt x="8929" y="78"/>
                </a:lnTo>
                <a:lnTo>
                  <a:pt x="8659" y="49"/>
                </a:lnTo>
                <a:lnTo>
                  <a:pt x="8388" y="26"/>
                </a:lnTo>
                <a:lnTo>
                  <a:pt x="8117" y="11"/>
                </a:lnTo>
                <a:lnTo>
                  <a:pt x="7846" y="2"/>
                </a:lnTo>
                <a:lnTo>
                  <a:pt x="7574" y="0"/>
                </a:lnTo>
                <a:lnTo>
                  <a:pt x="7303" y="5"/>
                </a:lnTo>
                <a:lnTo>
                  <a:pt x="7031" y="17"/>
                </a:lnTo>
                <a:lnTo>
                  <a:pt x="6761" y="35"/>
                </a:lnTo>
                <a:lnTo>
                  <a:pt x="6490" y="61"/>
                </a:lnTo>
                <a:lnTo>
                  <a:pt x="6220" y="93"/>
                </a:lnTo>
                <a:lnTo>
                  <a:pt x="5952" y="132"/>
                </a:lnTo>
                <a:lnTo>
                  <a:pt x="5684" y="177"/>
                </a:lnTo>
                <a:lnTo>
                  <a:pt x="5418" y="230"/>
                </a:lnTo>
                <a:lnTo>
                  <a:pt x="5152" y="289"/>
                </a:lnTo>
                <a:lnTo>
                  <a:pt x="4889" y="355"/>
                </a:lnTo>
                <a:lnTo>
                  <a:pt x="4627" y="427"/>
                </a:lnTo>
                <a:lnTo>
                  <a:pt x="4367" y="506"/>
                </a:lnTo>
                <a:lnTo>
                  <a:pt x="4110" y="591"/>
                </a:lnTo>
                <a:lnTo>
                  <a:pt x="3854" y="683"/>
                </a:lnTo>
                <a:lnTo>
                  <a:pt x="3601" y="781"/>
                </a:lnTo>
                <a:lnTo>
                  <a:pt x="3350" y="886"/>
                </a:lnTo>
                <a:lnTo>
                  <a:pt x="3102" y="997"/>
                </a:lnTo>
                <a:lnTo>
                  <a:pt x="2857" y="1114"/>
                </a:lnTo>
                <a:lnTo>
                  <a:pt x="2615" y="1237"/>
                </a:lnTo>
                <a:lnTo>
                  <a:pt x="2376" y="1366"/>
                </a:lnTo>
                <a:lnTo>
                  <a:pt x="2141" y="1502"/>
                </a:lnTo>
                <a:lnTo>
                  <a:pt x="1909" y="1643"/>
                </a:lnTo>
                <a:lnTo>
                  <a:pt x="1680" y="1790"/>
                </a:lnTo>
                <a:lnTo>
                  <a:pt x="1456" y="1942"/>
                </a:lnTo>
                <a:lnTo>
                  <a:pt x="1235" y="2100"/>
                </a:lnTo>
                <a:lnTo>
                  <a:pt x="1018" y="2264"/>
                </a:lnTo>
                <a:lnTo>
                  <a:pt x="806" y="2433"/>
                </a:lnTo>
                <a:lnTo>
                  <a:pt x="598" y="2608"/>
                </a:lnTo>
                <a:lnTo>
                  <a:pt x="394" y="2787"/>
                </a:lnTo>
                <a:lnTo>
                  <a:pt x="195" y="2972"/>
                </a:lnTo>
                <a:lnTo>
                  <a:pt x="0" y="31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c96d0e"/>
                </a:solidFill>
                <a:latin typeface="Arial"/>
              </a:rPr>
              <a:t>D-RA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Smith - KK7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22756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eaPac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35120" y="0"/>
            <a:ext cx="5883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les and Ima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file transfers with sliding window, compression, and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erver” for remot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esize/resa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ma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04080" y="2884320"/>
            <a:ext cx="300492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85680"/>
            <a:ext cx="8686800" cy="66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sitional Awaren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s and sends ICOM GPS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and direc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p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GPS to multiplex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tations updated in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map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8032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4120" y="0"/>
            <a:ext cx="838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55760" y="0"/>
            <a:ext cx="66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1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484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R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s and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8238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I don't have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8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96d0e"/>
                </a:solidFill>
                <a:latin typeface="Arial"/>
              </a:rPr>
              <a:t>R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other D-RATS users vi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and clean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only ref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 D-RATS serial por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:ref.d-rats.com:9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set one up for private or public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94760"/>
            <a:ext cx="82263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NC – The gateway drug to D-STA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KISS-mode TNC with D-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you point-to-point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X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r to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er over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with D-STAR users through stations running both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Python/G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Linux, Mac,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session st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treetMap.org for fre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3240" y="4572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2600" y="4603680"/>
            <a:ext cx="1317600" cy="1568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600360" y="474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58000" y="1609560"/>
            <a:ext cx="2009880" cy="67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315200" y="27432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400800" y="4800600"/>
            <a:ext cx="134136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http://www.d-rat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ttp://lists.danplanet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digita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voice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(DD) and Low-speed (D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r and gatewa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V radios can do ~950bp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odem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 serial port (no framing, ECC, et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8-bit sa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295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in-one tool for D-STAR data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al uses for the slow data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ed at EmCo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pendence o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ly targeted for si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etwork interaction at end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in 0.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ore BBS-like behavior 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ill at endpoint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-client-like messaging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-client-like file transf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event capture and log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 transport of forms (interface with WinLink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improvements, dynamic data,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data ports (multiple radios, network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ssag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form multicast cha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-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ACK/NAK from remote stations (ye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XML to convey structure an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SL at the endpoints for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fted headers for reply and for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-hoc setups at the end points (no infrastructur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360" y="450720"/>
            <a:ext cx="902988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3080" y="85680"/>
            <a:ext cx="853092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164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ny Richards</dc:creator>
  <dc:description/>
  <dc:language>en-US</dc:language>
  <cp:lastModifiedBy>Kenny Richards</cp:lastModifiedBy>
  <cp:revision>0</cp:revision>
  <dc:subject/>
  <dc:title>Talk Title</dc:title>
</cp:coreProperties>
</file>