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09600" y="695160"/>
            <a:ext cx="4432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4"/>
          </p:nvPr>
        </p:nvSpPr>
        <p:spPr>
          <a:xfrm>
            <a:off x="38811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644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1160" y="868644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BBE03-46F7-4E4D-A7ED-E700405A3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09600" y="69516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09600" y="69516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09600" y="69516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09600" y="69516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09600" y="69516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09600" y="69516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09600" y="69516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09600" y="69516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09600" y="69516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09600" y="69516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09600" y="695160"/>
            <a:ext cx="4435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1B6-3283-4EF4-AAB0-9C486D17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76A-6B8C-4355-8504-012E3363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1F2-9D61-4019-A9B4-463150DD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C05-6A9E-4A67-BE4D-CDB5195C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50840"/>
            <a:ext cx="82249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31E-861A-49DA-94FC-F408C95B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332-D2B9-42C4-8840-BAE5198A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D30-1091-4964-9A94-4AF2402E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BFB-8F6C-459B-B8F7-B474B6A2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50840"/>
            <a:ext cx="82249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EFBD-7374-4EAC-93EF-B44E2A9C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28DA-32C1-4782-A5C2-46F1B770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782-06B0-4217-9338-6637E480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85E-0B25-41AD-8209-D93F60D7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33DE8-DD5B-49E2-AA57-3B76BD7D2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27800"/>
            <a:ext cx="8086680" cy="414360"/>
          </a:xfrm>
          <a:prstGeom prst="rect">
            <a:avLst/>
          </a:prstGeom>
          <a:gradFill rotWithShape="0">
            <a:gsLst>
              <a:gs pos="0">
                <a:srgbClr val="c96d0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2249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1280" y="6427800"/>
            <a:ext cx="849240" cy="419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157400"/>
            <a:ext cx="8086680" cy="41040"/>
          </a:xfrm>
          <a:prstGeom prst="rect">
            <a:avLst/>
          </a:prstGeom>
          <a:gradFill rotWithShape="0">
            <a:gsLst>
              <a:gs pos="0">
                <a:srgbClr val="c96d0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1160" y="1565280"/>
            <a:ext cx="4917960" cy="342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85800" y="228600"/>
            <a:ext cx="5535720" cy="1177920"/>
          </a:xfrm>
          <a:custGeom>
            <a:avLst/>
            <a:gdLst/>
            <a:ahLst/>
            <a:rect l="l" t="t" r="r" b="b"/>
            <a:pathLst>
              <a:path w="15375" h="3272">
                <a:moveTo>
                  <a:pt x="15374" y="3271"/>
                </a:moveTo>
                <a:lnTo>
                  <a:pt x="15182" y="3079"/>
                </a:lnTo>
                <a:lnTo>
                  <a:pt x="14986" y="2891"/>
                </a:lnTo>
                <a:lnTo>
                  <a:pt x="14784" y="2709"/>
                </a:lnTo>
                <a:lnTo>
                  <a:pt x="14579" y="2532"/>
                </a:lnTo>
                <a:lnTo>
                  <a:pt x="14369" y="2360"/>
                </a:lnTo>
                <a:lnTo>
                  <a:pt x="14154" y="2193"/>
                </a:lnTo>
                <a:lnTo>
                  <a:pt x="13936" y="2031"/>
                </a:lnTo>
                <a:lnTo>
                  <a:pt x="13714" y="1876"/>
                </a:lnTo>
                <a:lnTo>
                  <a:pt x="13487" y="1725"/>
                </a:lnTo>
                <a:lnTo>
                  <a:pt x="13257" y="1581"/>
                </a:lnTo>
                <a:lnTo>
                  <a:pt x="13024" y="1442"/>
                </a:lnTo>
                <a:lnTo>
                  <a:pt x="12787" y="1310"/>
                </a:lnTo>
                <a:lnTo>
                  <a:pt x="12546" y="1183"/>
                </a:lnTo>
                <a:lnTo>
                  <a:pt x="12303" y="1063"/>
                </a:lnTo>
                <a:lnTo>
                  <a:pt x="12057" y="948"/>
                </a:lnTo>
                <a:lnTo>
                  <a:pt x="11808" y="840"/>
                </a:lnTo>
                <a:lnTo>
                  <a:pt x="11556" y="738"/>
                </a:lnTo>
                <a:lnTo>
                  <a:pt x="11302" y="643"/>
                </a:lnTo>
                <a:lnTo>
                  <a:pt x="11045" y="554"/>
                </a:lnTo>
                <a:lnTo>
                  <a:pt x="10787" y="471"/>
                </a:lnTo>
                <a:lnTo>
                  <a:pt x="10526" y="395"/>
                </a:lnTo>
                <a:lnTo>
                  <a:pt x="10263" y="325"/>
                </a:lnTo>
                <a:lnTo>
                  <a:pt x="9999" y="263"/>
                </a:lnTo>
                <a:lnTo>
                  <a:pt x="9733" y="206"/>
                </a:lnTo>
                <a:lnTo>
                  <a:pt x="9466" y="157"/>
                </a:lnTo>
                <a:lnTo>
                  <a:pt x="9198" y="114"/>
                </a:lnTo>
                <a:lnTo>
                  <a:pt x="8929" y="78"/>
                </a:lnTo>
                <a:lnTo>
                  <a:pt x="8659" y="49"/>
                </a:lnTo>
                <a:lnTo>
                  <a:pt x="8388" y="26"/>
                </a:lnTo>
                <a:lnTo>
                  <a:pt x="8117" y="11"/>
                </a:lnTo>
                <a:lnTo>
                  <a:pt x="7846" y="2"/>
                </a:lnTo>
                <a:lnTo>
                  <a:pt x="7574" y="0"/>
                </a:lnTo>
                <a:lnTo>
                  <a:pt x="7303" y="5"/>
                </a:lnTo>
                <a:lnTo>
                  <a:pt x="7031" y="17"/>
                </a:lnTo>
                <a:lnTo>
                  <a:pt x="6761" y="35"/>
                </a:lnTo>
                <a:lnTo>
                  <a:pt x="6490" y="61"/>
                </a:lnTo>
                <a:lnTo>
                  <a:pt x="6220" y="93"/>
                </a:lnTo>
                <a:lnTo>
                  <a:pt x="5952" y="132"/>
                </a:lnTo>
                <a:lnTo>
                  <a:pt x="5684" y="177"/>
                </a:lnTo>
                <a:lnTo>
                  <a:pt x="5418" y="230"/>
                </a:lnTo>
                <a:lnTo>
                  <a:pt x="5152" y="289"/>
                </a:lnTo>
                <a:lnTo>
                  <a:pt x="4889" y="355"/>
                </a:lnTo>
                <a:lnTo>
                  <a:pt x="4627" y="427"/>
                </a:lnTo>
                <a:lnTo>
                  <a:pt x="4367" y="506"/>
                </a:lnTo>
                <a:lnTo>
                  <a:pt x="4110" y="591"/>
                </a:lnTo>
                <a:lnTo>
                  <a:pt x="3854" y="683"/>
                </a:lnTo>
                <a:lnTo>
                  <a:pt x="3601" y="781"/>
                </a:lnTo>
                <a:lnTo>
                  <a:pt x="3350" y="886"/>
                </a:lnTo>
                <a:lnTo>
                  <a:pt x="3102" y="997"/>
                </a:lnTo>
                <a:lnTo>
                  <a:pt x="2857" y="1114"/>
                </a:lnTo>
                <a:lnTo>
                  <a:pt x="2615" y="1237"/>
                </a:lnTo>
                <a:lnTo>
                  <a:pt x="2376" y="1366"/>
                </a:lnTo>
                <a:lnTo>
                  <a:pt x="2141" y="1502"/>
                </a:lnTo>
                <a:lnTo>
                  <a:pt x="1909" y="1643"/>
                </a:lnTo>
                <a:lnTo>
                  <a:pt x="1680" y="1790"/>
                </a:lnTo>
                <a:lnTo>
                  <a:pt x="1456" y="1942"/>
                </a:lnTo>
                <a:lnTo>
                  <a:pt x="1235" y="2100"/>
                </a:lnTo>
                <a:lnTo>
                  <a:pt x="1018" y="2264"/>
                </a:lnTo>
                <a:lnTo>
                  <a:pt x="806" y="2433"/>
                </a:lnTo>
                <a:lnTo>
                  <a:pt x="598" y="2608"/>
                </a:lnTo>
                <a:lnTo>
                  <a:pt x="394" y="2787"/>
                </a:lnTo>
                <a:lnTo>
                  <a:pt x="195" y="2972"/>
                </a:lnTo>
                <a:lnTo>
                  <a:pt x="0" y="31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c96d0e"/>
                </a:solidFill>
                <a:latin typeface="Arial"/>
              </a:rPr>
              <a:t>D-RA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Smith - KK7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522756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eaPac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6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35120" y="0"/>
            <a:ext cx="5883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les and Imag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rary file transfers with sliding window, compression, and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server” for remote retri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resize/resamp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imag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04080" y="2884320"/>
            <a:ext cx="3004920" cy="34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85680"/>
            <a:ext cx="8686800" cy="666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sitional Awarenes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s and sends ICOM GPS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and direction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map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GPS to multiplex the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stations updated in real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map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80324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4120" y="0"/>
            <a:ext cx="8385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55760" y="0"/>
            <a:ext cx="6681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68664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681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4840" y="0"/>
            <a:ext cx="6686640" cy="68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-ST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-RA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es and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al Awar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work Conne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8238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 I don't have D-ST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816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c96d0e"/>
                </a:solidFill>
                <a:latin typeface="Arial"/>
              </a:rPr>
              <a:t>R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to other D-RATS users via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and clean fo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-only ref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e D-RATS serial por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:ref.d-rats.com:9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n set one up for private or public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94760"/>
            <a:ext cx="822636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NC – The gateway drug to D-STA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636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KISS-mode TNC with D-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you point-to-point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X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er to se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er overh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with D-STAR users through stations running both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Python/G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Linux, Mac,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session stack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treetMap.org for free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03240" y="45720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82600" y="4603680"/>
            <a:ext cx="1317600" cy="1568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600360" y="4743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858000" y="1609560"/>
            <a:ext cx="2009880" cy="676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315200" y="27432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400800" y="4800600"/>
            <a:ext cx="1341360" cy="10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-RAT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6600ff"/>
                </a:solidFill>
                <a:latin typeface="Arial"/>
              </a:rPr>
              <a:t>http://www.d-rats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-RATS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http://lists.danplanet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ST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ly digita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voice an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speed (DD) and Low-speed (D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er and gatewa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V radios can do ~950bp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modem requi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st a serial port (no framing, ECC, etc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8-bit sa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0120" y="685800"/>
            <a:ext cx="12952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o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in-one tool for D-STAR data 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real uses for the slow data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ed at EmCo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ependence on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ginally targeted for simpl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network interaction at end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anges in 0.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Us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more BBS-like behavior (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till at endpoints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-client-like messaging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TP-client-like file transfer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tter event capture and log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 transport of forms (interface with WinLink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improvements, dynamic data,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data ports (multiple radios, network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-RAT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essagin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-form multicast chat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-prot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ACK/NAK from remote stations (yet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XML to convey structure and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SL at the endpoints for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afted headers for reply and for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-hoc setups at the end points (no infrastructure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360" y="450720"/>
            <a:ext cx="902988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3080" y="85680"/>
            <a:ext cx="853092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22400" y="228600"/>
            <a:ext cx="51642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nny Richards</dc:creator>
  <dc:description/>
  <dc:language>en-US</dc:language>
  <cp:lastModifiedBy>Kenny Richards</cp:lastModifiedBy>
  <cp:revision>0</cp:revision>
  <dc:subject/>
  <dc:title>Talk Title</dc:title>
</cp:coreProperties>
</file>